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85E-3CC6-45CB-8ACF-84F0A8939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F0C-971D-4B66-AE26-0D4007AE5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EC9-E599-45C9-B7FD-66620B40E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AA5-DE21-49B1-ABA0-F8699404F4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91C-8A3E-47F3-B7D5-3EE6146CA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9B1-F1B6-4140-9054-31B5D5EE7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C60-02BB-459B-A1AF-80B8547DC6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9EDB-76DD-4552-95C5-78F953820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F64-1A32-4FBC-84B2-4F0357BCB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6AED-8A0E-401A-9BF5-843C3A17F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6B1D-F696-41C4-A579-CBEF5B62A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DBD-D086-473E-A441-26D3C7CCA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315-86BE-455D-B270-124669446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68DA-7C6A-4C00-B786-33B088719C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B400-0894-4691-9134-EF7C51EC4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2A1A-0AFC-45F2-86E0-50C819093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678-ED80-4CAE-AA65-5096E585D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D3C-CACB-4E22-A34F-768DFCDC0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B86-FEFA-46A0-85AA-A5B4A13A38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F32-54EC-4EF6-B2CA-F5B5AB016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C8B-D3CE-4885-BFA7-5C57EE8E2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EB4-40A6-4D1E-85DA-166376768A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0C0-ACC2-4C15-A56A-C4A99F98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DE5-D9A9-4047-9266-6E0ABEE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7AC-8D4E-493A-8F0C-F62E5D5B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143-A270-4E39-85E7-8898260B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D09-3659-4BCF-8592-6FFF784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CB4-47F6-414B-91F3-3665E03E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CCC-A1FE-4484-B31A-568DE4E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BAB-9C5E-430A-AB73-F679826B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D1D-078C-4E48-9AD3-652DFE15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57B-C6EB-4751-B742-CA4E1DD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4BE-AD82-40D6-906B-AA021CC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C44-A0D2-4C12-A70F-C71E37C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CD7D-C7C4-4AE8-84F7-7A0F5B3FCF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WORLD GENOCIDE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2666520"/>
            <a:ext cx="899172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n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od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wand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rf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nocide in Rwanda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Rwanda, Afric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 April 1994 ----100 d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petrators: Hutu (Government and Interahamwe militia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ctims:  Tuts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utus were the majority (80%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utsi were the minority (20%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:  Mass murder, torture, rape and forced relocation of Tutsi peop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traditional tribal differences made worse by the Belgian colonial powers who had controlled Rwanda.  They favored the Tutsi and this made the majority Hutu very upset when they left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aths and tolls:  1.2 million dead in 100 days!! (That’s 10,000 a day or 400 an hour).  Many of the surviving women were subject to rapes and received HIV.  400,000 orphan childr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ults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PF (Rwandan Patriotic Front) a Tutsi army that had fled to a neighboring country returned and was able to stop the genocid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USA and other governments around the world knew this was going on and did not stop it!!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984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4548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Questions for reading activity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re the similarities and differences between Hutus and Tutsi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happened when the Belgians came to Rwanda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as the RPF and what was its purpo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parked the killing in April of 1994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IT TICKET (Full response required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im:  What is going on in Darfur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46(Darfur)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96252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w:  What do you think is going on in this im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32878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nocide in Darfu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:  Darfur region of Sudan in Af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:  From 2003 to the Present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:  Darfur Citizens targeted by the Sudanese Janjiweed militia (Arab contract militia known for their violent methods and use of child soldi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1911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menian Genocide also known as the Armenian Holocaust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Ottoman Empire (Turke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 1915-191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 The Ottomans against the ethnic group called the Armenians (currently from the country of Armenia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350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:  Systematic killing of the civilians of the Darfur region.  Methods used including bombing, burning villages, murdering, raping and torturing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:  Political and religious/ethnic conflic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tical:  Gov wants control of the farmland in Darf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igious/ Ethnic:  Lighter skinned Muslims targeting darker skinned Muslims (and some Christian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aths and tolls:  400,000 dead.  2.7 million displaced to refugee camps--- deaths ongoing with about 1,000 dying each month due to murder and dise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5583240" y="0"/>
            <a:ext cx="356076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0" y="25909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5486400" y="3809880"/>
            <a:ext cx="317484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dan - Genocide question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re the differences between the people in Sudan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re the origins of the conflict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 are the Janjaweed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you think the government is lying about not supporting the Janjaweed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has the world done about the problems in Darfur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19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nian Genocide Continued…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hat:  The systematic killing and forced deportations of the Armenians.  The Ottomans set up forced labor concentration camps where the Armenians were assassinated and worked to death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hy:  Ethnic and cultural differences.  To this day the Turkish government denies the genocide!!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Deaths:  500,000 Armenians in 2 years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3276720"/>
            <a:ext cx="55879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3200400" y="0"/>
            <a:ext cx="5943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mbodian Genocide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Cambod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1975-1979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 Communist regime the Khmer Rouge against the Cambodian citizen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: mass killing at RANDOM of Cambodian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e Khmer slogan ran: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ff00"/>
                </a:solidFill>
                <a:latin typeface="Arial"/>
              </a:rPr>
              <a:t>'To spare you is no profit, to destroy you is no loss.'</a:t>
            </a:r>
            <a:r>
              <a:rPr b="0" lang="en-US" sz="1600" spc="-1" strike="noStrike">
                <a:solidFill>
                  <a:srgbClr val="8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aths: 2 million deaths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374920"/>
            <a:ext cx="4178160" cy="448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81280" y="0"/>
            <a:ext cx="5562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Aim:  What happened in Rwanda? 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L45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23880" y="3123720"/>
            <a:ext cx="6018480" cy="205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Now:  List 4 facts you learned yesterday about Cambodia and Armenia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29:58Z</dcterms:created>
  <dc:creator>NYCDOE</dc:creator>
  <dc:description/>
  <dc:language>en-US</dc:language>
  <cp:lastModifiedBy>NYCDOE</cp:lastModifiedBy>
  <dcterms:modified xsi:type="dcterms:W3CDTF">2012-03-22T13:07:37Z</dcterms:modified>
  <cp:revision>14</cp:revision>
  <dc:subject/>
  <dc:title>FQ:  How did/does genocide look around the world? L71(worldgenocide)</dc:title>
</cp:coreProperties>
</file>